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6D1-030E-4A1D-9A09-BAD38924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B25-84EE-4D47-B373-BE76607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3B3-1FA1-4E96-9812-B623068F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F90-DAE7-42B1-A246-FEE72890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67E-E1BF-46EF-9DFF-9A58672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019-B97B-4BE8-8BDB-7A57960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AA-CDD1-45CE-B7C1-CB5CD898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977-E784-4FA7-9ACD-164C46D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FA3-DF83-4A94-A792-7EFA5F5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5E1-FE27-4E09-9407-CC63F6D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AE5-033E-43D3-BC5C-1BCB1B8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FAB-2E71-465D-BB37-B8CA5C7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BF1-6314-4DC1-8CBF-3B0B7AF1CB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57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00080" y="1928880"/>
            <a:ext cx="464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00120" y="2428920"/>
            <a:ext cx="3500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ωλ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αλ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ρονος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ιθ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εσβυτερ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0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0800" y="3224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00800" y="38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500800" y="443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50080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500800" y="5653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person, e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411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1954080"/>
            <a:ext cx="44294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πελων, ἀμπελωνος, ὁ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κων, εἰκονος, ἡ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λλην, Ἑλληνος, ὁ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σαρ, Καισαρο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μα, ατος, το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ς, ὠτος, το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929200" y="209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ne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929200" y="2749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929200" y="3354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963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29200" y="4568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29200" y="5178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14240" y="1500120"/>
            <a:ext cx="4429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ς, παιδ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περμα, ατος, το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00720" y="1643040"/>
            <a:ext cx="442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, servant (plus the related noun 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δ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52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or infant, which 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00720" y="351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28760" y="43959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declin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728640" y="5214960"/>
            <a:ext cx="32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σχα, το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52243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14240" y="15541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28800" y="20970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ραζω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ασφημ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εω (37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λογιζομαι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π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οιμαζ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214960" y="2239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214960" y="2892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lasp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14960" y="3497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214960" y="4106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sider, argue,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214960" y="4711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214960" y="5321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epare, mak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214960" y="2714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214960" y="3367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st, t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5214960" y="3971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4581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ph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214960" y="20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asp,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71720" y="1943280"/>
            <a:ext cx="30002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τε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ιραζ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ασσ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ε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214960" y="21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fall/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14960" y="27194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214960" y="336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214960" y="3990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214960" y="4610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000080" y="1978200"/>
            <a:ext cx="3500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ανδαλιζ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τασσ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υλασσ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ιζομα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3:11:02Z</dcterms:created>
  <dc:creator>Sarah</dc:creator>
  <dc:description/>
  <dc:language>en-US</dc:language>
  <cp:lastModifiedBy>Sarah</cp:lastModifiedBy>
  <dcterms:modified xsi:type="dcterms:W3CDTF">2009-07-09T16:32:44Z</dcterms:modified>
  <cp:revision>17</cp:revision>
  <dc:subject/>
  <dc:title>Slide 1</dc:title>
</cp:coreProperties>
</file>